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29500-2F95-4FEE-AF5C-B98F874D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6D14F-2111-4EAB-B691-71884972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D037-5282-4159-B0D5-EDBD987C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8D9AD-75DC-4CFB-ACDA-CCC4389F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8015-B623-40BA-9492-6B30E485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E6A7-653B-457D-BFF0-DD09ADA3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21C5-6E86-4BD4-98BB-EC7D219F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C9E3-A9FA-4F0F-BDE2-BA0759F5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C39C-1E3A-4E89-81BE-3965F7B0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0DCF-9763-4CE2-82F6-3464D80C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E970-4292-4FBE-94EC-127FB8AB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77251-5F8E-4A71-8E3B-F354E1B8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AF11-66EE-49B3-B7B5-4B417110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E09F-6D01-4E3F-8295-5B64DA97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04DF-7D25-4AE3-9457-7715528C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34F0-AB65-480F-9599-107CD603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B909-5BA6-48E1-BC45-44CB57AC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DCDDD-0DA0-47E6-B497-A35F790C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F7DFF-CC4C-45A6-AD9D-FA52C9F2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CFF86-DE5E-43C3-AC09-4482CCC8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89B1E-EAD9-41BB-AACE-29DBB61C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F15DE-D484-46B7-A416-5CDBF368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A7761-97DF-4F70-AAEE-B92BE4F2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4495C-5F3D-4CE9-8E5D-9C407691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9823-BF32-4F7E-8039-753E553042CB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26C9-C5BB-4D03-82E7-29F8C4823D9E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e5e5ff"/>
                </a:solidFill>
                <a:latin typeface="Garamond"/>
              </a:rPr>
              <a:t>Adatbáziskezelés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ormálformá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Normalizálá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Cél: a tárolási és karbantartási káosz megszüntetése – veszteségmentes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ormalizálás – normálforma dekompozíci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kedvezőtlen normálformájú egyedet lebontjuk több kívánt normálformájú egyed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utósbol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8229600" cy="4822920"/>
        </p:xfrm>
        <a:graphic>
          <a:graphicData uri="http://schemas.openxmlformats.org/drawingml/2006/table">
            <a:tbl>
              <a:tblPr/>
              <a:tblGrid>
                <a:gridCol w="1378080"/>
                <a:gridCol w="1914480"/>
                <a:gridCol w="1830240"/>
                <a:gridCol w="1871640"/>
                <a:gridCol w="1235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átum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lkatrész név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lkatrész kó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gységá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rab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uplu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X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osztófe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B-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ndenzá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T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ékhenge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Öszzérté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fizeté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0. lép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Legyenek a tulajdonságok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DÁ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NÉV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KÓ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EÁ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D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ÖÉ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BEFI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következő relációt állítjuk össz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UTÓSBOLT {DÁT,ANÉV,AKÓD,EÁR,DB,ÖÉRT,BEFIZ}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Írjuk fel az adatbázist 1NF-b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064040"/>
        </p:xfrm>
        <a:graphic>
          <a:graphicData uri="http://schemas.openxmlformats.org/drawingml/2006/table">
            <a:tbl>
              <a:tblPr/>
              <a:tblGrid>
                <a:gridCol w="1176480"/>
                <a:gridCol w="1785960"/>
                <a:gridCol w="1081080"/>
                <a:gridCol w="1150920"/>
                <a:gridCol w="684000"/>
                <a:gridCol w="1174680"/>
                <a:gridCol w="117648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Á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É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KÓ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Á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ÖÉ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FI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upl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X-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osztófe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B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ndenzá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T-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ékheng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ékheng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upl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X-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osztófe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B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ízpum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-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e5e5ff"/>
                </a:solidFill>
                <a:latin typeface="Garamond"/>
              </a:rPr>
              <a:t>Az AUTÓSBOLT –ban fennálló anomáliák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1176480"/>
                <a:gridCol w="1785960"/>
                <a:gridCol w="1081080"/>
                <a:gridCol w="1150920"/>
                <a:gridCol w="684000"/>
                <a:gridCol w="1174680"/>
                <a:gridCol w="117648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Á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É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KÓ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Á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ÖÉ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FI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upl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X-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osztófe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B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ndenzá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T-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ékheng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ékheng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uplu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X-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osztófe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B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ízpum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-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771640" y="2133720"/>
            <a:ext cx="2376720" cy="1008000"/>
          </a:xfrm>
          <a:prstGeom prst="upArrow">
            <a:avLst>
              <a:gd name="adj1" fmla="val 48833"/>
              <a:gd name="adj2" fmla="val 4677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ővit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4508640"/>
            <a:ext cx="2376720" cy="1008000"/>
          </a:xfrm>
          <a:prstGeom prst="upArrow">
            <a:avLst>
              <a:gd name="adj1" fmla="val 48833"/>
              <a:gd name="adj2" fmla="val 4677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ódosít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4508640"/>
            <a:ext cx="1008000" cy="1800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őrl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Kulcs = {DÁT,AKÓD}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>
            <a:off x="2411280" y="1989000"/>
            <a:ext cx="3961080" cy="223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43280" y="2637000"/>
            <a:ext cx="1224000" cy="86508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2637000"/>
            <a:ext cx="1224000" cy="86508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KÓ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5445000"/>
            <a:ext cx="266400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ÖÉRT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BEF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5445000"/>
            <a:ext cx="266364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NÉV  EÁ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1280" y="4653000"/>
            <a:ext cx="122400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4292640"/>
            <a:ext cx="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907640" y="3645000"/>
            <a:ext cx="1295640" cy="158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80000" y="3500280"/>
            <a:ext cx="1368360" cy="1657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Tehát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másodlagos attribútumok nemcsak a kulcstól függnek, hanem annak részhalmazaitól is (részleges függősége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Van benne tranzitív függősé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1000 FT a függé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felbontás sémáj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1916280"/>
            <a:ext cx="2808360" cy="388908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429480" y="2458440"/>
            <a:ext cx="3890880" cy="280656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0800000">
            <a:off x="2700360" y="2205000"/>
            <a:ext cx="3457440" cy="3384720"/>
          </a:xfrm>
          <a:prstGeom prst="triangle">
            <a:avLst>
              <a:gd name="adj" fmla="val 4958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00360" y="2349360"/>
            <a:ext cx="3456000" cy="100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ÁT                       AKÓ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67280" y="3860640"/>
            <a:ext cx="792000" cy="863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4365720"/>
            <a:ext cx="1800000" cy="1368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ÖÉ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EF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4292640"/>
            <a:ext cx="1800360" cy="1368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NÉ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Á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Felbontá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1628640"/>
            <a:ext cx="1727280" cy="252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ÖÉ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EF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4869000"/>
            <a:ext cx="2087640" cy="1150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APIF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1628640"/>
            <a:ext cx="1727280" cy="252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KÓ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06920" y="4869000"/>
            <a:ext cx="2087280" cy="1150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AD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16720" y="1628640"/>
            <a:ext cx="1727280" cy="252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KÓ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NÉ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Á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72360" y="4869000"/>
            <a:ext cx="2087280" cy="1150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LKATRÉ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79640" y="234936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3213000"/>
            <a:ext cx="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16360" y="256536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80360" y="234936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NAPIFORG{</a:t>
            </a:r>
            <a:r>
              <a:rPr b="1" lang="hu-HU" sz="4000" spc="-1" strike="noStrike" u="sng">
                <a:solidFill>
                  <a:srgbClr val="e5e5ff"/>
                </a:solidFill>
                <a:uFillTx/>
                <a:latin typeface="Garamond"/>
              </a:rPr>
              <a:t>DÁT</a:t>
            </a: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,ÖÉRT,BEFIZ}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16000" y="1600200"/>
          <a:ext cx="6769080" cy="2692440"/>
        </p:xfrm>
        <a:graphic>
          <a:graphicData uri="http://schemas.openxmlformats.org/drawingml/2006/table">
            <a:tbl>
              <a:tblPr/>
              <a:tblGrid>
                <a:gridCol w="2016000"/>
                <a:gridCol w="2811600"/>
                <a:gridCol w="19414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Á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ÖÉ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FI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79280" y="508464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z a táblázat 2NF-ben van, de nincsen 3NF-b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Normálformá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Normálforma: az egyed szerkezeti állapo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26920" y="3213000"/>
          <a:ext cx="7859880" cy="2970360"/>
        </p:xfrm>
        <a:graphic>
          <a:graphicData uri="http://schemas.openxmlformats.org/drawingml/2006/table">
            <a:tbl>
              <a:tblPr/>
              <a:tblGrid>
                <a:gridCol w="2016360"/>
                <a:gridCol w="3529080"/>
                <a:gridCol w="2314440"/>
              </a:tblGrid>
              <a:tr h="96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É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ZAKKÉPZETTSÉ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ZÜLETÉSI DÁT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gy Zs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épészmérnők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özgazdás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2.02.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iss Pá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ka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8.08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Bontsuk fel két táblázat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1628640"/>
            <a:ext cx="1726920" cy="252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ÖÉ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0560" y="4869000"/>
            <a:ext cx="2087640" cy="1150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ÁRBEVÉT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1557360"/>
            <a:ext cx="1727280" cy="252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ÖÉ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EF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5280" y="4797360"/>
            <a:ext cx="2087640" cy="1150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EFIZET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2492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2000" y="242100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ÁRBEVÉTEL{</a:t>
            </a:r>
            <a:r>
              <a:rPr b="1" lang="hu-HU" sz="4400" spc="-1" strike="noStrike" u="sng">
                <a:solidFill>
                  <a:srgbClr val="e5e5ff"/>
                </a:solidFill>
                <a:uFillTx/>
                <a:latin typeface="Garamond"/>
              </a:rPr>
              <a:t>DÁT</a:t>
            </a: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,ÖÉRT}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Á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ÖÉR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BEFIZETÉS{</a:t>
            </a:r>
            <a:r>
              <a:rPr b="1" lang="hu-HU" sz="4400" spc="-1" strike="noStrike" u="sng">
                <a:solidFill>
                  <a:srgbClr val="e5e5ff"/>
                </a:solidFill>
                <a:uFillTx/>
                <a:latin typeface="Garamond"/>
              </a:rPr>
              <a:t>ÖÉRT</a:t>
            </a: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,BEFIZ}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ÖÉR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FIZ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ALKATRÉSZ{</a:t>
            </a:r>
            <a:r>
              <a:rPr b="1" lang="hu-HU" sz="4000" spc="-1" strike="noStrike" u="sng">
                <a:solidFill>
                  <a:srgbClr val="e5e5ff"/>
                </a:solidFill>
                <a:uFillTx/>
                <a:latin typeface="Garamond"/>
              </a:rPr>
              <a:t>AKÓD</a:t>
            </a: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,ANÉV,EÁR}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314440"/>
                <a:gridCol w="317196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KÓ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É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Á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X-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UPLU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B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OSZTÓFE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T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NDENZÁ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ÉKHEN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-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ÍZPUMP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ELADÁS{</a:t>
            </a:r>
            <a:r>
              <a:rPr b="1" lang="hu-HU" sz="4400" spc="-1" strike="noStrike" u="sng">
                <a:solidFill>
                  <a:srgbClr val="e5e5ff"/>
                </a:solidFill>
                <a:uFillTx/>
                <a:latin typeface="Garamond"/>
              </a:rPr>
              <a:t>DÁT,AKÓD</a:t>
            </a: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,DB}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Á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KÓ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X-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B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T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X-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B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.02.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-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A négy táblázat mindegyike     3NF-ben va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egmaradtak a funkcionális függőség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egszüntettük a redundás adattárolá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ltüntettük a karbantartási anomáliák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z adatmodell dokumentá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datbázis neve, célja, környeze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Diagram (a kapcsolatok ábrázolása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gyedek listája (miben mit tárolo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apcsolatok felsorolás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Rekordleírá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Minden tulajdonság szerep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Opcionalitás, egyedisé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Értékek,korlátozáso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Tulajdonságok (származtatá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Az ÉTTEREM adatbázis </a:t>
            </a:r>
            <a:br>
              <a:rPr sz="4000"/>
            </a:b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normalizálás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rendszer ismertetés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étteremben különféle ételeket és italokat rendelhetünk, amelyeket bizonyos nyersanyagokból recept szerint készítenek 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fogyasztás végén számla szerint fizetün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z adatbázis létrehoz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RECEPT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zonosító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elnevezés,ár,tipus, tipnév,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kód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név,egysár,mértegys, szüksmenny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ÁMLA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szlaszá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dátum,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zonosító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 elnevezés,ár,rendmenny,érték,végösszeg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Lépése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intasorok készíté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ulcsok meghatározá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ormalizál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Normálformá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ormálformá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0.normáforma (0NF vagy N1N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1.normálforma (1N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2.normálforma (2N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3.normálforma (3N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RECEPT kulcsa =</a:t>
            </a:r>
            <a:br>
              <a:rPr sz="4000"/>
            </a:b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{azonositó,akód}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gazak az alábbi funkcionális függőség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azonosító,akód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szüksmenny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azonosító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elnevezés,ár,tipus,tipnév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akód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név,egysár,mértegys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SZÁMLA kulcsa =</a:t>
            </a:r>
            <a:br>
              <a:rPr sz="4000"/>
            </a:b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{szlaszám, azonosító}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gazak az alábbi funkcionális függőség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szlaszám,azonosító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rendmenny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szlaszám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dátum,végösszeg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azonosító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elnevezés,ár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Megjegyzése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érték = ár * rendmen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zámolható, nem tárolju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végösszeg =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  <a:ea typeface="Arial"/>
              </a:rPr>
              <a:t>Σ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  <a:ea typeface="Arial"/>
              </a:rPr>
              <a:t> érté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  <a:ea typeface="Arial"/>
              </a:rPr>
              <a:t>Számlaszámra összegez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  <a:ea typeface="Arial"/>
              </a:rPr>
              <a:t>Számolható, de kerekítve tároljuk a pénzügyi mozgások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teljes függőségek alapjá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RECEPT 3 relációra boml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SZÁMLA 3 relációra boml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1 reláció közös, hoszen 1:1 kapcsolatban állnak egymáss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reláció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ÉTLAP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zonosító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elnevezés,ár,tipus, tipnév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NYAG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kód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név,egysár,mértegys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RECEPT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zonosító,akód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szüksmenny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ÁMLAFEJ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szlaszá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dátum,végösszeg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ÉTLAP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znosító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elnevezés,ár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ÁMLATÉTEL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szlaszám,azonosító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 rendmenny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zzel 2NF –ra hoztunk mindegyik táblá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De van tranzitív függés az ÉTLAP –ba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azonosító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tipus} és {tipus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tipusnév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azonosító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{tipnév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többi tábla 3NF –ban va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2276640"/>
            <a:ext cx="0" cy="865080"/>
          </a:xfrm>
          <a:prstGeom prst="line">
            <a:avLst/>
          </a:prstGeom>
          <a:ln w="1047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A tranzitív függőség megszüntetés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ÉTLAP 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zonosító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 elnevezés, ár, tipus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FAJTA 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tipus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tipnév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"/>
          <p:cNvSpPr/>
          <p:nvPr/>
        </p:nvSpPr>
        <p:spPr>
          <a:xfrm>
            <a:off x="3995640" y="3284640"/>
            <a:ext cx="3961080" cy="1800000"/>
          </a:xfrm>
          <a:prstGeom prst="wedgeEllipseCallout">
            <a:avLst>
              <a:gd name="adj1" fmla="val -69000"/>
              <a:gd name="adj2" fmla="val -7592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ótárfájl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e5e5ff"/>
                </a:solidFill>
                <a:latin typeface="Garamond"/>
              </a:rPr>
              <a:t>Kapcsolati ábr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inden nyíl az N:1 kapcsolatot jelen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9640" y="692280"/>
            <a:ext cx="1871640" cy="23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ip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AJ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ipnév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3933720"/>
            <a:ext cx="1871640" cy="2376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kó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NY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é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gysá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érteg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3933720"/>
            <a:ext cx="1871640" cy="2376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onosí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kó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RE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üksmen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72360" y="3933720"/>
            <a:ext cx="1871640" cy="2376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laszá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onosí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ÁMLATÉT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rendmen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692280"/>
            <a:ext cx="1871640" cy="23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onosí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ÉT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nevez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á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ip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72360" y="692280"/>
            <a:ext cx="1871640" cy="23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laszá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ÁMLAF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át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égössz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1052640"/>
            <a:ext cx="115092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907920"/>
            <a:ext cx="129528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51280" y="2565360"/>
            <a:ext cx="79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1052640"/>
            <a:ext cx="136836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16000" y="4149720"/>
            <a:ext cx="86364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5280" y="4221000"/>
            <a:ext cx="129708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4581360"/>
            <a:ext cx="1224000" cy="28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2720" y="4292640"/>
            <a:ext cx="1224000" cy="288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88000" y="4581360"/>
            <a:ext cx="1513080" cy="28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68360" y="1628640"/>
            <a:ext cx="1151280" cy="432000"/>
          </a:xfrm>
          <a:prstGeom prst="leftArrow">
            <a:avLst>
              <a:gd name="adj1" fmla="val 50000"/>
              <a:gd name="adj2" fmla="val 66625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40000" y="4941720"/>
            <a:ext cx="1079640" cy="432000"/>
          </a:xfrm>
          <a:prstGeom prst="leftArrow">
            <a:avLst>
              <a:gd name="adj1" fmla="val 50000"/>
              <a:gd name="adj2" fmla="val 6247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506800">
            <a:off x="4716000" y="3284640"/>
            <a:ext cx="2160720" cy="504720"/>
          </a:xfrm>
          <a:prstGeom prst="leftArrow">
            <a:avLst>
              <a:gd name="adj1" fmla="val 50000"/>
              <a:gd name="adj2" fmla="val 10702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00720" y="2924280"/>
            <a:ext cx="358560" cy="1081080"/>
          </a:xfrm>
          <a:prstGeom prst="upArrow">
            <a:avLst>
              <a:gd name="adj1" fmla="val 50000"/>
              <a:gd name="adj2" fmla="val 75377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96360" y="2852640"/>
            <a:ext cx="431640" cy="1152720"/>
          </a:xfrm>
          <a:prstGeom prst="upArrow">
            <a:avLst>
              <a:gd name="adj1" fmla="val 50000"/>
              <a:gd name="adj2" fmla="val 66764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Technikai adat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ÉTLAP </a:t>
            </a:r>
            <a:r>
              <a:rPr b="1" i="1" lang="hu-HU" sz="3200" spc="-1" strike="noStrike">
                <a:solidFill>
                  <a:srgbClr val="ffffff"/>
                </a:solidFill>
                <a:latin typeface="Garamond"/>
              </a:rPr>
              <a:t>van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logikai tipusú tulajdonság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SZÁMLAFEJ </a:t>
            </a:r>
            <a:r>
              <a:rPr b="1" i="1" lang="hu-HU" sz="3200" spc="-1" strike="noStrike">
                <a:solidFill>
                  <a:srgbClr val="ffffff"/>
                </a:solidFill>
                <a:latin typeface="Garamond"/>
              </a:rPr>
              <a:t>kifizet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logikai tipusú tulajdonság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0. normálform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R reláció 0. normálformában van, ha létezik olyan másodlagos attribútum, amely a kulcstól funkcionálisan függetl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táblázat ismétlödő ismereteket tartalma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3068640"/>
          <a:ext cx="8002440" cy="2689200"/>
        </p:xfrm>
        <a:graphic>
          <a:graphicData uri="http://schemas.openxmlformats.org/drawingml/2006/table">
            <a:tbl>
              <a:tblPr/>
              <a:tblGrid>
                <a:gridCol w="2054160"/>
                <a:gridCol w="3592440"/>
                <a:gridCol w="2355840"/>
              </a:tblGrid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É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ZAKKÉPZETTSÉ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ZÜLETÉSI DÁT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gy Zs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épészmérnők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özgazdás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2.02.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iss Pá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ka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8.08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2050920" y="3716280"/>
            <a:ext cx="4392720" cy="1441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Bővithetőség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ESZERZÉS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kód,dátu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beár,menny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NYAG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akód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név,egysár,mértegys, készlet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EMÉLY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kódszá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neve,poszt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EOSZTÁS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poszt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jelentés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CSAPAT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dátum,kódszá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Bővithetősé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{dátum,sorszám}</a:t>
            </a:r>
            <a:r>
              <a:rPr b="0" lang="hu-H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{kódszám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hol a sorszám az asztal egyedi azonosító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em igaz viszont, hogy a dátum és a kódszám meghatározná a sorszámo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z új egyed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SZTAL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sorszá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hányfős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ISZOLGÁL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dátum,sorszá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kódszám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zért a számlafej így módosu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ÁMLAFEJ{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szlaszám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,dátum,végösszeg,sorszám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Áttekintő kapcsolati áb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54936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AJ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04000" y="364500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EOSZ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43280" y="364500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EMÉ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364500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F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" y="364500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TÉT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522936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SAP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56000" y="522936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ISZO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522936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SZ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206064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ÉT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56000" y="206064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RE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3280" y="206064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NY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04000" y="2060640"/>
            <a:ext cx="1584360" cy="10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ESZER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116000" y="2781360"/>
            <a:ext cx="0" cy="1008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116000" y="1341000"/>
            <a:ext cx="0" cy="792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834920" y="2565360"/>
            <a:ext cx="865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067280" y="2565360"/>
            <a:ext cx="720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084360" y="2565360"/>
            <a:ext cx="792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35280" y="4149720"/>
            <a:ext cx="936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4581360"/>
            <a:ext cx="0" cy="93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1763640" y="5661000"/>
            <a:ext cx="936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050560" y="4869000"/>
            <a:ext cx="360360" cy="288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67280" y="5805360"/>
            <a:ext cx="792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211640" y="4797000"/>
            <a:ext cx="36036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508720" y="4508280"/>
            <a:ext cx="0" cy="93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84720" y="4149720"/>
            <a:ext cx="935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e5e5ff"/>
                </a:solidFill>
                <a:latin typeface="Garamond"/>
              </a:rPr>
              <a:t>A RELÁCIÓS ALGEBR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relációs adatbázis kezelő nyelvek lekérdezési lehetősé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relációs algebra műveletein alapszi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Unió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Különbsé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Descartes szorz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Projekci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Szelekció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Hányad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Metsze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Összekapcsolá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ermészetes összekapcsolá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Művelet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Unió 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(jele :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Legyen R és S két n-ed fokú reláció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uniójuk az R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 S  szintén n-ed fokú reláci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Sorai vagy az R –nek vagy az S –nek vagy mindkettőnek eleme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D E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12000" y="4005360"/>
            <a:ext cx="180000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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62728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1964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Művelet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ülünbség 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(jele : -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Legyen R és S két n-ed fokú reláció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R - S  különbsége szintén n-ed fokú reláci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orai vagy az R –nek elemei de az S –nek n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D E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12000" y="4005360"/>
            <a:ext cx="180000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-S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62728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1964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Művelet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Descartes –szorzat 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(jele: x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Legyen R n –ed , S m –ed fokú reláci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Descartes-szorzatuk az az (n+m) –ed fokú Rx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Minden elem első részét az R –ből, második részét pedig az S –ből vesszü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4005360"/>
            <a:ext cx="180036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                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b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48000" y="4005360"/>
            <a:ext cx="180036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S                D E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d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c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12000" y="4005360"/>
            <a:ext cx="2808000" cy="21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ff"/>
                </a:solidFill>
                <a:uFillTx/>
                <a:latin typeface="Garamond"/>
              </a:rPr>
              <a:t>RxS               A B C D E 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b  c b  d 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a   b  c  f  c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d  e  b  d 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b  d e  f  c 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c  a  b  d 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f  c  a  f  c  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2728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1964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Garamond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1. normálform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R reláció 1. normálformájú, ha minden másodlagos tulajdonság funkiconálisan függ a kulcstó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táblázat minden sorában pontosan egy attribútumérték v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z előző példa 1NF-ben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628640"/>
          <a:ext cx="8229600" cy="3384720"/>
        </p:xfrm>
        <a:graphic>
          <a:graphicData uri="http://schemas.openxmlformats.org/drawingml/2006/table">
            <a:tbl>
              <a:tblPr/>
              <a:tblGrid>
                <a:gridCol w="2111400"/>
                <a:gridCol w="3693960"/>
                <a:gridCol w="2424240"/>
              </a:tblGrid>
              <a:tr h="14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É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ZAKKÉPZETTSÉ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ZÜLETÉSI DÁT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gy Zs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épészmérnők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2.02.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gy Zso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özgazdász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2.02.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iss Pá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ka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8.08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2. normálform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R reláció 2. normálformájú, ha 1-es normálformában van, és minden másodlagos attribútuma a reláció bármely kulcsától teljesen füg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egjegyzése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Ha sz R kulcsa egyetlen attribútumból áll, akkor 2NF típus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Ha nincsen R-ben másodlagos attribútum, akkor 2NF típus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3. normálform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R reláció 3. normálformájú, ha 2-es normáformában van, és egyetlen másodlagos attribútuma sem függ tranzitíven valamely kulcstó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1. normálformájú reláció Boyce-Codd normálformájú (BCNF típusú), ha minden generátora egyben kulcs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egyjegyzés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Csupakulcs ese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ÜGYELET {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Garamond"/>
              </a:rPr>
              <a:t>ki,mikor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}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Több kulcsjelölt ese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SZÁMLATÉTEL {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Garamond"/>
              </a:rPr>
              <a:t>szlaszám,sorszám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,cikkszám,mennyi}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07:40:55Z</dcterms:created>
  <dc:creator>Nagymáté Péter</dc:creator>
  <dc:description/>
  <dc:language>en-US</dc:language>
  <cp:lastModifiedBy>Nagymáté Péter</cp:lastModifiedBy>
  <dcterms:modified xsi:type="dcterms:W3CDTF">2003-12-11T13:07:28Z</dcterms:modified>
  <cp:revision>28</cp:revision>
  <dc:subject/>
  <dc:title>Adatbáziskezelés </dc:title>
</cp:coreProperties>
</file>